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BD7-27B1-485D-88A6-853498B1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E17-84D9-4C5A-AF06-70F645FD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8691E-4F41-4D91-AA5C-19BB8F0E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C88F0-AAF7-4F07-85A9-1480BBA5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0D85C-5D94-4765-894F-0B3D5B0C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03989-AD59-47A8-8DE5-FE37324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2EFE3-E2E5-489B-A748-1BE5A4EA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53FC8-91F1-47F4-8AB6-094746E8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75D86-3B7F-457E-AB24-DB15FA19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E29C1-0CF0-448B-91E8-6089D09C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7FEBB-7B2A-4749-ABEB-E5F3DBB4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5CFC6-BF6F-46AC-BE31-6B95A0A8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E83-7E4E-4D0D-B4AF-94AFEAB6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043F6-806D-4177-8977-873210BC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15857-7C47-4F8A-BF2F-8959A9B8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99574-A805-4953-A4AC-C02BB134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8ED9C-C0D9-4C93-BB80-8702ADDE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ECD68-78C6-49B4-BE42-FB36563A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B1A7C-5082-4AB7-8618-E4A3D6C9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9B30E-6B30-4741-8BFF-E15E424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CF649-15BA-4B64-B4F4-9F729111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35FFC-7289-4603-A348-71BC9690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825A2-7C48-497D-9E76-A5587FE2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C8F-B514-46B5-B22A-A85A89F0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3A666-A215-40B4-9AEB-7C250CB4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66371-D2E3-4075-99A1-5381769E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F0E14-B2A8-4AFC-ABF6-09CB5B69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C9CD6-D688-4EBD-A7A3-FAADF5ED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A6EA0-7A27-4C6E-AB56-82B654D0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6AE2E-D8E7-4A5C-B94D-ABD5DFE0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3274D-BCC8-4168-BF09-4F0DCF7F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18E41-8ADD-4A44-8FC8-EFD37F9A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40F2E-933E-45BE-83CD-32307F9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90FCD-18D7-455E-91F5-AF164F7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2665-82EE-4E0D-9C8B-05D6CB0D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189DE-F2EE-4377-AC36-CD9EA24A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49CE9-E159-429E-A3D7-1D904E82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C2777-EC7B-4C68-84B7-5AD2267D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BEE08-DD2B-4C07-81E5-E137A0F8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D32D0-7FFA-4BB3-90A5-6FE1CCE3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77110-B9E0-4568-9FFF-9A9C482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FE8E1-67B9-4E09-BF5A-2AC35EEA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34074-7805-41A6-8E88-5CE2243D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C0EF6-D3DF-45FD-97EC-3AD037ED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3F8A9-0FF0-4B6F-BDC4-C49F205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6C3E-E1D5-4698-824D-E8192429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16B98-9EAE-4203-92A8-A56A004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2BE8E-6D73-4C2C-B880-20C77A0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38EC6-A42C-4925-B577-BBF02630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F7CB5-B29F-4466-A0D3-86DE385D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B5A20-CAE7-4E4A-BD54-C945079E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68022-297F-4582-81A7-0A5B21BC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9B401-A9A2-4BA4-80C1-6AEF84C5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4D062-1F14-4DD5-A6B5-AF08EB94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ECF81-9BC0-4D28-9750-4B18F50E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78F8B-F32C-49C2-BF14-58E64FB1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AE4C-6CAA-45A2-B0BE-B9685078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5D4CD-85C8-413A-A16C-0ED1A0ED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052CB-6C25-4382-B4AC-A7BC422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EB408-67C3-4544-A3FE-71BC4895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A022B-4A69-4E9A-BC78-69B96562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38334-E865-4FFF-8BDC-F23F705E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FE210-25C0-4A8F-8582-CF9FB879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4B91D-C0D9-48CE-AC35-9D996DA8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DC725-2E66-4E29-8CFF-5AB4DE20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2FE69-F86B-4CE0-9E5E-FE2593DC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16402-C289-4808-ADAC-223F2515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2081-30B5-4050-89FE-B5F84535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F55CB-077C-48E3-8611-F8B8699D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3D9D7-AACF-4E00-BE87-C39C15A2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2CA0E-D61A-4609-83AF-B0806FC1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C43B7-568A-4112-BB23-98430179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BF1D8-A6BF-4D9A-8437-A568C84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3D424-9909-47C7-9336-B713D60E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99197-70C4-492C-8C41-116F7B5E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DBF2F-15F3-4493-84F3-07D81629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3CECD-6057-4B27-96E5-7C5B08D4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FF66C-955D-423C-BFF0-EFFE6BE9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B257-8748-4375-A9FA-6578582F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29D60-8491-44AD-8CEE-DDDB02E6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5A780-B657-44C7-A85F-04A9FD97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CF98C-2409-40DD-815D-5D878BA8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DE464-5F79-4490-BF1F-BDD6EC02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1682B-5A9E-4154-8F52-7DF9F9A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F0EB2-5DF9-40A9-96BA-E76D5D11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74B18-59C5-4A35-8C20-BA18E1FC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CF269-FFD8-4B79-8FFB-233B0BD4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48746-7349-4F5A-B4E5-F9204D99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6209A-F791-47AB-B60B-E2FFC3CC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A725-6F1D-479B-95A7-A845F2D8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18FCF-519E-42E8-89B5-1B114130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4F8E0-377F-4E8D-B54A-7C834A7A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5CB70-99E7-4462-AA1E-E5B5EDEA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A854A-424A-40F3-813F-2D5FC8F4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49937-6DE4-4858-8041-1BFD6D2E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0CEE7-B752-4ADF-B270-B0F5B5C6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80CED-73A3-4790-B54D-7DEA7CBC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266B0-C305-4BC4-9BB5-387AE62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2E4E5-A0CF-4980-B56D-ACF7B33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22E7D-88A7-468D-8EF0-A00335B7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B6E1-001D-426B-8CB2-D38F1F5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B1C59-6263-49E8-9FDC-A3C666BF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DCFB6-91D2-48FD-A8FF-5ED29522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4B25FD-72D7-4601-A4C8-091C81D9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16901-BFD2-4324-82A4-4EEE9C95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F432D-0E1C-4ED7-B87D-F3EE911D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98A96-E7C3-496A-B7E5-1B651C31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73E46-3951-473D-AF26-C3CF61DF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86661-E99F-47EA-A24B-D9896183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17959-875B-47A8-BA9B-EC728CBB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957F9-9F24-4D54-B396-81EF69C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794-CAB4-4CF5-953A-9C5F7D2F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61BA-F6E5-4B0A-8A8F-EF86216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7006D-AF90-443D-B877-1FF74E7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84C94-1DDC-47AB-A64F-289DC69C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E9E5C-7FC8-485C-8297-3A66639F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80128-7BCF-44D0-B937-0A9450D0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66947-BF05-4F0A-9BAD-084BE035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87FC8-DAC3-4E8B-B8D0-D11C9757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53D59-DE51-4F1B-8DEE-9DE99BF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C06BC-FC7A-4AC1-A298-3DB8DB35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E175D-CEE4-4E12-9FE1-08B87779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DF787-A942-44A6-A451-F5F71DD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6E2B-456C-4599-8505-A599D0F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51355-F833-4BD6-A296-618E8A69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DCC14-EFEC-41DD-B70B-F6AEC95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2D639-22A7-48EF-8B5E-C54C3914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5D108-F24D-4F43-83A1-26531CD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311D8-B9B7-44F7-8F99-9B44813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2F451-7696-4B66-8F45-28310232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415B8-67B9-4E87-8CAE-A5113CEA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174DED-EE0F-409A-9BC9-49F23C03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70F5E-CB65-456C-9370-752C43EF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DC4E89-34E6-4170-8BA1-CF1440DF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3C96-B464-4CED-8AD3-1D7815ED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6D33A-F642-4F70-8E23-C06723AA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DC0FDA-024B-410A-92CA-89AE9960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F703F-B9D0-4B9A-A159-B910EAE0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58E302-C9B4-4749-A89A-E0A54693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C354C-7B40-4A7B-A2C6-72A277E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4AA4E-AFC7-4009-A335-0F8154B4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7F67C0-0DE7-45CF-BBE1-2CBF240D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918A11-3D75-4B27-AD7D-FDFCD45D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B6BE26-8DEA-4EF2-BA42-49D60D48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FB11B-BF9C-437B-BCC5-E85EE1C8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6F11-A53D-4157-BDE9-5F2E3BB2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5730A-162F-48D5-ADCE-B094F96D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9D2DD-D1CB-41EA-B0C2-B929CEE5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B9EB1B-926B-4248-BA90-A6E3945D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07C89-16C2-4D7A-8A7B-596DDE0D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F356D-7CB2-4A58-B50C-6C8354C8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31DDC-21C7-4D81-9B77-697ACD87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5CB083-7B14-44CB-A785-C9DD228B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A4A1E7-78F8-4A01-87D0-C059AC97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405264-9DED-4DB3-BC02-AEDA36B3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D2589-E8E3-47AA-A8A3-D618B042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E82E-E32B-4308-B3B0-952F707C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09C50-FCA6-41E4-93F6-1C9E7917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16DB6-9622-4A4C-893C-2E5D587F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912E8C-6CB7-43AD-B4A3-A8360747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735C7E-B954-44BA-AC02-5E350404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11BC36-FB9A-40D6-B3D2-D7F0B907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F02364-7C88-4AFB-9B95-FC054B85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EF600-520E-4D0C-8F6C-79F3A8F9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D32F6-0CA8-46E4-962C-BB68AEE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C487AB-8913-41F1-80D2-89EC13D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BC727-CEB9-455E-A40D-4E320541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9C4A-C271-435F-AE99-36406E3B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21214-534D-404D-B357-ED2C49FD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BE650C-13D1-4135-A6AE-7A8CE92F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C628B-C0B4-40E3-AA94-A3272580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1FD2-206F-4D4C-82C9-82407C13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E551-BD55-47E3-ABA8-8CCE1D66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9567-661E-4FAF-A095-65472B7B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0A6B-D5B7-4C22-B9B0-31059206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F83-BD39-4DAB-B584-E02350D6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BCFD-F466-4864-9035-FB82370A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1B39-B9EB-43C1-A66A-D7430E4F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0F30-DE51-4CB8-AC87-168C302A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6F36-D931-4CDB-B1AF-06202B14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3923-B3A5-4670-BE08-4235AAB3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ED2D-ECCF-461A-9EA8-92600CD9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D19F-EA28-4B54-BDE2-A15A17A9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E7745-7406-40AA-94B9-8549CE7B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64CAE-D7B4-440B-A6F6-37DB115E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59F60-0B79-4425-A47A-01B56241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BE7-B6D3-4799-B93F-3899783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C684-4BED-4332-84BB-FDEF9E52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6AC1-99F1-4A76-A6B5-C9DE4517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A2A8-7005-463F-802F-E5576325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80AF-EEED-4DDB-A88D-24BD5B15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2363-5719-4B5E-804D-699931A6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8A90-9D90-4F72-88FB-569DFC02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C5A2-D4F3-4134-BC80-92F46852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AFAF-ACBE-4872-9143-5B240E53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AA981-35E3-48B4-A147-E84F6F18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E4F6A-BC41-4C2A-8544-F43B9290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FE3-EE6A-4D41-9AFB-BAD8D003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1FB0-C377-4C24-9CFF-513702C8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91C7D-0BCB-485D-9140-B628A17C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FB1A-6892-4C64-B6C6-477799FA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192B-51DF-4E71-816A-1D6D1F23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770B-166D-4A07-8CFD-3C4EC77C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EC8AC-EB7E-4B9B-AC1A-7FD8A99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A8B8D-A904-4CBF-82BF-FB10D57A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360C7-DC39-4AD4-9FB3-4DA1532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6F52E-737D-489C-8B83-BAA1C01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29772-E9D4-4657-B937-0D4664F3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559-40CE-4A70-894F-743DFF7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D1527-8E15-47FF-8A56-2738FF51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BF295-6639-4384-A8E6-992EE5CF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4CE00-2F10-4E26-AA29-490466BF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9CE8D-0D53-45E0-B91B-46085B7E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6C8B1-AA30-453B-A52F-98DBB56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DAF3C-8249-4E33-9488-A64E0445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BF04-DB95-46AE-B58D-97055297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05CFB-E778-489A-9162-25B21171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30B62-0339-4BBA-8B17-56749050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4107D-1F3C-4D7A-8C11-9642E17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B9D-9BD6-4D5E-B554-0367E45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490E0-E317-470F-AF1A-6132EF2E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D11F1-15F4-42AD-8873-7C81E7F0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FBD67-8E43-45DB-B243-4FB00D2D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A4DC6-2337-456C-8BB1-7CE1E25F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05D04-1A35-475E-A0B0-5121D05A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145A-B774-4C92-BFB8-449F27A6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461A2-60EF-4DDB-B437-6D8C22E4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54037-0671-427C-BCF5-FCC60724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A838D-ADA0-43DB-9C9E-947E0BC9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58AE-D152-4FA6-B027-5AE36A8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3C5-C268-4BB0-8D7C-403E5C4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809E9-7A61-470A-8CDD-6B265145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E64FF-E4FD-406C-8E9F-2F7B3735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4058-B6B0-4827-992A-AC4D6574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868E-DAA8-4FB7-AC2B-A243191B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DA63-5B45-46D7-B8F4-6E04D2FC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19E15-0377-4BDE-8516-976EB0B7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8EB0B-7DEF-4023-BE76-FB2B4FD6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42F22-58A7-4217-9EBF-E3FFECE3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B3F47-878E-4FAA-8687-8716C348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6FA4E-FD6E-490F-BC79-D5F0E047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01E-F118-44EC-9EC5-E1EE4FC1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0C2C0-8F24-47B3-8C11-F57279C3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BBDB9-0EEC-4532-9F8B-0B8CC62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76EB8-F20A-4730-A633-935D2BC4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EC843-414C-441A-8690-399201EB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8A6E-2ABC-45CA-AF8F-1E895FE0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8565-7F79-4941-898C-385FDB27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C2729-10AA-4A91-B63A-C45A1437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72E35-CAAF-49B6-86CF-4AD9AD57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3B057-6605-4FCA-993D-773B8274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124F1-DDDD-4C40-9131-EC6EDAC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320B-EDEE-4E2B-BE5B-B425985516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4034-A003-4CBC-87D7-AD3756F60D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D73-9B7A-4D4A-9B79-38A772AA1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AB19-1A66-4D12-A5CA-4DB3570F7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8C53-162D-4EE2-9D71-475695782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9CA8-D32E-43EA-BD0D-63DE9723E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277-8F5F-45BF-9F74-84418D563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C5ED-CA83-4D3E-BC4F-8264E9376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FBF5-FF8D-496F-8EFE-9A556CE2FF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32D3-5850-41E1-8AA1-F2B699ED7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D1FE-7BC1-4FCC-82B0-3C837C07A3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6B6E-1A39-4091-96BC-F85124CFE6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B829-351D-47AB-9AF7-24486D63FE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60F4-2223-4D88-8623-69FF8D602A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E83E-3E21-418D-8D6C-7C7BB06A87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3317-A144-49FB-944C-34CD19D8F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15C1-A5AA-4C41-AEC1-A818FBDF2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570-C51B-41FA-9AC5-8BE4FCF51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7043-1E92-4B0A-8705-E2338BF83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C6E4-A83F-459D-9B7B-6B9F403AE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2690-4EFA-4FCB-87E1-325096797A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53DD-262E-49D8-8FA0-74D91C5786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95B5-9F3E-4A0B-87B0-A658E2594E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FE99-3C7B-4785-8C56-5C2E50FFB7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A13B-A933-4F7B-AC93-EC0697857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3219-715C-4BE5-A71B-5F9D55990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BC36-E342-461B-B0AB-8E823E8467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F1DB-AF85-4A44-8182-CAFD65DEB0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550-4473-47A4-82D4-133E18E7B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0616-967A-4960-88B5-13D52B7679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454C-4C15-48DD-AACD-9430F6A040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F5A-3C8B-4F46-B186-A66BEC2366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FC3A-DF78-4488-A1F5-3FE56444D3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D64-4CE4-4389-8AD8-B56972408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38BD-318D-46FC-9CA1-F0A68A07DC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CD44-6308-4018-8372-DCB0B4177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AB42-09F4-4F23-A260-B5CCB4159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C56-E5B5-4636-964C-2301ADC883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5225-E4BA-4F20-886A-243AC1C2D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26FE-E018-470F-BB3B-9276212E64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14440" y="3071880"/>
            <a:ext cx="4515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2080" y="95400"/>
            <a:ext cx="8413560" cy="6629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24360" cy="1295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51280" y="244944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900000" y="4005360"/>
            <a:ext cx="7920000" cy="1295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900000" y="553068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900000" y="6294600"/>
            <a:ext cx="396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28680" y="352440"/>
            <a:ext cx="8486640" cy="61531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826920" y="292428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900000" y="443700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971640" y="527220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900000" y="6049800"/>
            <a:ext cx="525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314280" y="652320"/>
            <a:ext cx="8515440" cy="5553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757600" y="335772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4141800" y="3371760"/>
            <a:ext cx="14382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2843280" y="4437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2800440" y="5516640"/>
            <a:ext cx="119520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4327560" y="4437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4284720" y="5516640"/>
            <a:ext cx="11952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5695920" y="3371760"/>
            <a:ext cx="143820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5881680" y="4437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5838840" y="5516640"/>
            <a:ext cx="119520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7251840" y="3371760"/>
            <a:ext cx="143820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7437600" y="4437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7394400" y="5516640"/>
            <a:ext cx="11955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7352" descr=""/>
          <p:cNvPicPr/>
          <p:nvPr/>
        </p:nvPicPr>
        <p:blipFill>
          <a:blip r:embed="rId1"/>
          <a:stretch/>
        </p:blipFill>
        <p:spPr>
          <a:xfrm>
            <a:off x="652320" y="2433600"/>
            <a:ext cx="7839360" cy="19908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5029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6324" descr=""/>
          <p:cNvPicPr/>
          <p:nvPr/>
        </p:nvPicPr>
        <p:blipFill>
          <a:blip r:embed="rId1"/>
          <a:stretch/>
        </p:blipFill>
        <p:spPr>
          <a:xfrm>
            <a:off x="357120" y="74520"/>
            <a:ext cx="8318520" cy="6626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4175280" cy="12970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1403280" y="5487840"/>
            <a:ext cx="73454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628560" y="1195560"/>
            <a:ext cx="7886880" cy="44668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187280" y="361620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1187280" y="432108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1289160" y="5129280"/>
            <a:ext cx="4249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338040" y="914400"/>
            <a:ext cx="8467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2231" descr=""/>
          <p:cNvPicPr/>
          <p:nvPr/>
        </p:nvPicPr>
        <p:blipFill>
          <a:blip r:embed="rId1"/>
          <a:stretch/>
        </p:blipFill>
        <p:spPr>
          <a:xfrm>
            <a:off x="585720" y="1285920"/>
            <a:ext cx="7972560" cy="4286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539640" y="1411200"/>
            <a:ext cx="73454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734544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539640" y="2968560"/>
            <a:ext cx="734544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468360" y="3716280"/>
            <a:ext cx="597528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496800" y="4437000"/>
            <a:ext cx="597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6:1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